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E4DF-B979-4F02-B75C-F17DA005B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A313-9396-4273-9EF0-522942AB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8FEE-C5C7-4F4C-B908-866E14DB3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A856-7065-414F-A689-78BFCB8F4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456F-E26B-4932-9FFD-63F99A15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6131-768D-4131-9F48-713D0D4E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6CCC-9368-43D0-9D0D-424988E2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DEA1-11B6-4A5C-AAAA-2409EC1C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2BFD-6701-496A-B710-49DE3E42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EE01-0DFB-4318-A02B-73F93027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1D28-B74A-4E96-BCEB-938F5F53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A11C-A60E-46FF-8D99-775DDA17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9779-F095-49A0-885D-7E6FA7DCE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CIZI ŞI BA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nualul de Chimie,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Elena Alexandrescu, Viorica Zaharia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590920" y="4572000"/>
            <a:ext cx="3781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Sesiunea iunie-iul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izii şi bazele sunt substanţe compuse anorganice sau organice implicate în multe procese naturale sau în reacţiile aplicate în laboratoarele de chimie şi în industria chimic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dicatorii acido-bazici sunt substanţe organi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ra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e îşi schimbă structura şi, în consecinţă, culoarea, în funcţie de caracterul acid sau b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c al soluţ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oluţia apoasă diluată de acid clorhidric, concentraţia ionilor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mare, pentru că, practic, toate moleculele de acid clorhidric au ionizat la dizolvare. Acidul clorhidric este un acid tare. În aceste condiţii, mai multe molecule de turnesol şi-au schimbat structura şi culoarea roşie este mai intensă.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nt şi alte teorii în chimie care definesc noţiunile de acid şi baz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ul 1880, Svante Arrhenius  a definit acizii ca substanţe compuse care, în soluţie apoasă, formează ioni hidrataţi de 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rogen (H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(aq)) şi bazele ca substanţe compuse care eliberează în soluţie ioni metalici (Me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n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şi ioni hidroxid (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 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bstanţe ca HCI,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,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OH sunt acizi Arrhenius, iar substanţe ca NaOH, Ca(OH)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KOH sunt baze Arrheni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0290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8"/>
          <p:cNvSpPr/>
          <p:nvPr/>
        </p:nvSpPr>
        <p:spPr>
          <a:xfrm>
            <a:off x="533520" y="1066680"/>
            <a:ext cx="784836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licaț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. Compoziţia  procentuală de masă a unui oxoacid cu M=98 este:  2,04% H, 32,653% S, 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306% 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abiliţi formula moleculară a oxoacidulu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ecuaţiile reacţiilor de ionizare ce au loc la dizolvarea oxoacidului în ap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reciaţi tăria oxoacidului, ştiind că are constantele de aciditate :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,2*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2. Metilamina (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este o bază slabă. În soluţia apoasă de metilamină,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ai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3. Acidul iodhidric  (HI) este un acid foarte tare. În soluţia apoasă de acid iodhidric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ii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concentraţii egale cu concentraţia iniţială a acid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ionii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61596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12a3</cp:lastModifiedBy>
  <dcterms:modified xsi:type="dcterms:W3CDTF">2012-06-10T10:59:16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